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5F6-056F-40BA-810C-6A8EC60A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C26-A072-4A17-8E2F-3588D449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9859-3B49-4595-B767-5D0D731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998E1-CC0A-4A3B-9873-917C64D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FE97-A377-4DCC-9A08-3A3F929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C0C54-EA03-4EAD-A010-8779385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CBDB-C53E-4C9D-842C-8848E16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604EA-25CA-4C65-B513-7143F39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029B0-7D87-4081-8D93-6C76B862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23898-B6D7-4815-AB27-264DCAA6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8F6AA-F403-481D-A3A3-09F85F4A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31FA0-03FD-477E-99E2-0469D563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1D5-FEFC-4C02-A8F5-173D444F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E79F9-78E9-4356-AE74-02D40C66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881C3-F286-469F-AB39-DB6573A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82B1A-3A59-4B08-9EEF-ED76AF8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A5F1D-7ED6-4C5F-BECE-EB93C585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6B208-62CF-4B3D-9430-CFA8492A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84307-CF54-4D22-95BB-45800C3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75E6C-E038-4CDA-AC08-8316DF0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9E8F-450D-4EF3-B2D5-E9AB653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0CF52-40C3-472A-B59D-4CC986BD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E19EF-9873-4EB1-86AE-89F48E42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08E-D726-43AF-8E18-45B908AB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DEA65-0D5F-4F9A-A71B-753AC5C6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620E8-5402-4A2F-81D3-174EADE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AE6E8-019A-4E2B-9623-9EF8ED16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FC1E-10AA-4742-80B1-87C1511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43B5B-AEE5-46DB-A317-79B8A6A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6FA5-7BB3-484D-8589-3DE18716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300B-510D-454C-B94E-CA913C2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6B10-E0C4-4153-A9B2-35F5A79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433F-0771-45C3-9EF7-A3D83BB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B430-E97B-4036-A15E-211A4FC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787D-641F-4F40-BD59-FC0E67C9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D03F1-F0D7-4149-9457-F1060AE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DA6BA-E318-4C0F-B0EC-1E9800C4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BEA7D-6399-4399-BB91-C445775A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9D91-DB3B-4703-81BC-42F8FA2B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D78C2-6E55-48B1-8FCA-485E64B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6DB64-96E1-4BD4-8DC5-22C731D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C6890-0272-4BEB-9C5E-7895EBD2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53CCB-520A-4817-B21D-68735F4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EF079-F801-40D5-90AD-28F56D22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1047-16F6-4BE5-8010-9ED4C00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725F-58D2-43E6-8A9C-3F71766E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1A9A4-3BAA-43C7-8833-6C79A9F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5E5D9-932A-4624-8494-9F66392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F5633-67B3-482A-9682-504BBB0A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078CD-76F7-431D-8CBD-070D0F53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968EB-4786-4607-98D5-01B1373F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4D05F-821A-45FD-8874-59001949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4E1A3-D9F6-4B54-9BA0-1760940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4B98F-AD49-4A17-95B4-9FBE33B5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BCF0D-4CA6-4CE5-ABD6-47AEDA9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D8108-A1CC-4BDF-8D0A-DA61E816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3F67-B195-4008-8251-F183D690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EB481-D09A-45BE-B17F-7B3C6607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3945C-DDC7-46F3-B044-2B19033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EA37D-7C7A-43FA-BC0F-2A2B0B9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DB732-D620-4BD7-A68C-764A3A9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4A5AF-7CB0-427B-8756-80581C39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E67FC-7047-41F7-8BFA-28530BA6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8108E-C16C-495E-A164-D4AD766B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2622B-A7B5-475B-B0AE-125145DC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E1D6A-7D45-45EA-AB00-63FD6758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4A14B-6509-4AF0-B118-F1CEDBE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2CE8-0F6F-4878-8775-B3EF29B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B2A7B-5BB8-4D4F-A044-5718CE63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54716-8BC6-42D8-AA33-CDE2C0A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360E9-1048-440C-B240-0A9126D9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6BBB3-03D8-4114-B6A4-C372E9B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A1B2C-1E9D-4E48-9F0B-A4B12B0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86185-6881-422B-9825-1EB1077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B600A-D01F-4D77-89EE-5D086155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0E9DC-9133-4573-A51F-DDCDC7B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F6E99-C041-4A9B-961D-270CF7B6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8626C-6F32-4B07-8080-2C882E52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7EB-88B7-4A05-8744-D17C1E6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8DD9D-E1A5-4C16-A64A-500D6DB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416E6-0F59-4054-B3AA-F829DEA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BE142-8AEE-42D1-A914-2A9B8EA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7D999-A2E2-4778-9132-2B29A9AC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50FC4-8031-4AC6-B24E-CA9EBBF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62BD5-781D-42CE-9D70-0598C17E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7DA08-D73E-47FD-868E-C2C8220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12FC1-9460-421A-B34B-D05E538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A5E82-8535-429E-ACFC-63DD207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FC97D-AD6A-4CF5-82B8-3AE107D8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0D72-EB11-4C28-98A7-3C060C3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D3C28-BB84-4D63-A781-E83432DD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25C18-651A-4D7D-BF32-46484209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B801C-792B-4EEF-BBE2-156365C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72204-D341-4E1F-BAF0-00341272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4D018-53D7-4E08-8E66-A3497BB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65B65-AFF9-4B5F-864E-E4254293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05C18-5C27-43D1-A3FD-45BB3B3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60E32-02AE-4766-AAEE-414DB1D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955BB-0B07-4228-9BF2-4ABC75A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4D700-2A99-4940-8E5D-59B8611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B145-3A19-40EA-9C39-678906F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FD855-4408-49E1-9B40-EC2AD1B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0EE6D-B590-463A-80A4-832B57C6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EC079-C7BF-4D93-BD7A-C827993E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039E2-17D6-4CB1-8429-D740126C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2D189-74AE-452A-959D-4294730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26C83-62E2-45D6-8D64-F82C63A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FFB76-F904-49CF-AE67-CE1A876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C5DBE-A44B-4785-A8FB-21E8C128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FF86C-EF4A-4B34-A359-2F518A2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8E1A6-6356-4A54-8AFF-43F06D2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ABB-0DA3-4635-8318-20403CB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EB7-64EB-4356-8E16-9532365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F0F0F-C60F-44CA-8E92-A2E60570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371A1-943A-4693-BF73-B3AB7F8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D527C-5596-4E5D-B871-EC0D8BB2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B7B27-CF6D-4C1C-A6BD-98FDAEBB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09B91-34EB-436D-9B76-F82E2B71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08E35-282C-4652-8A06-1FB20AB9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82E43-8788-40A3-9260-93D56BB3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49A2A-BD62-40DD-A791-5D2605AC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9CB17-16C2-43FE-92C2-7953A07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468B7-7CAF-4D27-A685-9519D631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09F-D1D5-4147-B59C-F5914E3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2DDD5-5B71-4565-9D35-2B45778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7B403-87AB-42A8-8C62-5577902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8B5E3-E772-48FA-8FE3-227624F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50F32-76A2-4B99-AF77-7EA042DD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DD3A7-8310-49A3-AF8A-E970B6A4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81648-F7C0-44B1-B87D-BC3AB142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B404F-9F67-417C-B628-96CA634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DFF19-3050-446C-BE55-392CD86D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CA034-C814-4D8F-8128-2F35828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BF171-AF18-4B45-AAEF-7D6A464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8554-C128-4144-A75F-75D0670D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B8DD8-5A26-47FC-A94E-70CC5E74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78E65-E609-4404-99BE-BDF28216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F5CC5-322E-49AF-8420-696E867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09810-ADD3-4D94-A7B3-8ECE1B45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D9413-5395-4D87-8C60-748356C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48CE5-B843-4C1F-9FB5-CE1E5AF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273B0-6308-41EA-8C37-EB0FFB5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BA626-44E2-4CE1-A95E-3301089F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94D0D-9479-47FD-94D7-FB4EA586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0A1AD-3512-46CD-9C4B-B3BCCED9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D843-3014-41E7-98A3-B05621C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CC9E0-1F23-43CB-830F-D07F4C3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EC3B2-7112-404B-AC4E-350F616A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6892F-E9C5-4D68-84F7-8C2AF7E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2A289-DB43-4CBA-8B02-2E0D5F3A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2EEE2-7F68-4973-9FA4-A99F7A7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0F226-2C45-4FC1-8F28-1592E61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9F0DE-B9B5-4ACF-AF19-BD3A127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BC8CE-03F3-4183-BBE6-23409C3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4A1F2-63E6-4A7C-8B37-6E5AE03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F6598-BFB6-4BE9-A40E-9C2DB007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060-1775-400D-AF13-F9605A32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11F183-BC46-463D-892D-50E5C0E7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9231B-0E25-4D59-A52B-9F33563D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9D05B-2976-43CD-ACD7-133B229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C2D23-8752-43B7-906B-F3A436A8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41E61-F26F-4212-8AFD-BD467329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B66DE-58A8-4046-BAF5-8A91E0C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34C05-FD30-4A11-8A25-4E23EDC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7CC082-977B-4EC4-908B-E8A54D2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B8F76-FEAE-47E0-B82E-71B8F1C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1FED4-F02A-4C74-BCC9-CB590C8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5064-238D-4C26-AF81-2A9EEF02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C460E-1AD6-47C9-AD2B-56CD023A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DCF7B-5F9B-4BE5-B9AB-7EB40F4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37FEB-C660-4FC7-8D47-11FBA189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AF23-7725-4E48-AF0D-253B280D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F1AB-F367-4D64-88FB-1C2DC5D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439D-7BF4-413A-AD2A-76D20C3B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3723-BE50-468B-9D30-FA0205D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87D-94AD-4BEC-9561-D4E8EAE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B44F-3270-4F9E-AC2A-41787CD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79BD-F4E3-4F82-9DF3-4276182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9615-F2FA-4C03-B0BB-5F6DE77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121D-FE38-4624-92C8-19FB68C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D1A5-79E1-471C-A412-409E32C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F6A0-C4B7-4002-BE8C-0F5E0904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15A0-9F53-40BC-A0C5-7692BC82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2ABE-7716-44E4-9CB2-AC807E58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7356-0F84-4F79-BD25-A45F86C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A89A-D903-4538-AD0D-1392BCE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D0D-B1AF-427B-A490-722CAA33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B7CD-188E-4AAD-8DFE-199E851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6C09-9496-4835-A562-131A37A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298A-D2A6-42BE-8C00-97EB78B9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456-F175-4730-B5C4-2AF8AD6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5622-737B-4A66-BA05-AF47C1F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4DB1-2696-447D-9C36-8CC5C75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3D54-CFFF-4032-88EC-130B7BE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1943-1F4D-4B94-8AE6-98E77174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1C94-7DB8-4A22-8BD2-836D8F65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A086-7EF0-4525-B035-75328E57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337-14C9-4F86-A388-1F16C55C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C50F-2692-47B2-A435-F078A92F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4BEA-780F-424F-A2AA-A9A4E534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37B8-4D97-451E-AB69-694674A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504B-E259-45A3-A90F-8C5A85F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9883D-6D58-4136-89DA-009B4F9B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1B78-7F34-47F5-857D-0BF2C65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75CD-67D8-4DC9-876D-8942BEC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7539-676B-4909-A2BA-CB4AC1A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D44E-706A-4B81-91B3-36C0A74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F944-A2BB-4FDE-A994-4043EF8B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22B-20A4-489E-926A-B9E58212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F845-C607-425C-812E-316DC4A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882D-DCA7-4905-A812-623DA431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0391-91ED-4154-9AC1-792FE36B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5778-4FA2-47D4-9EE2-BD43878F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4CAB-7B4A-486A-8BE8-037B26F0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739D7-D9A7-49EF-859B-CF67467A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E4BE-E660-41CD-93FC-91BD2771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6177-8F1A-426D-9CD4-35D6F436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747C-0CCB-45F6-BEAA-0E8E670D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0ACB-9F73-4DDF-8CBA-00C370B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1A1-DC5C-48B8-AB66-7D9682B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FB4FD-1D2A-4D82-9882-F8F5C2A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709A-7C1A-4F11-B9DB-F06FD0B7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6249-B043-4BD6-B2E9-014E1D58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27F8-28EE-44E3-9A6A-D6960BD8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8F54-B361-4030-B3E8-6C5E525B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D0C2-22B3-43DB-9D44-DBD92BA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1053-56F8-4589-9678-DD3323F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27E2-48FB-401D-98CF-8548603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5422-B738-4F47-893D-9D653D9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5BE0-9DFF-431F-8FBC-8868965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9EC-245B-4B31-83F2-2E482EEF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15DFC-5E6F-4444-88C5-2502B31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89AC-EBA9-4A25-8814-0162E7BB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027C-33DC-4506-A20A-70ABF2F8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E40E-245F-41DA-BE74-0E03E897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BC6A-D99F-4CF0-8547-B50038FA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5BBB3-8452-4BA3-8122-9008D8F2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CE45-0766-4271-884E-B27DE03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D8FF-7CFC-4B96-BAB2-3E920378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5D318-D03E-4522-B4C3-9DCAFE8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9AC2-2C91-4C04-B330-BECA2D5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127-DD75-44D3-9875-A27F9657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2B87F-3B51-4D54-BC93-E8DFA438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9B57-E77F-4D63-B09F-9992439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58674-6E38-4A12-9C17-7B101B9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EF54-AB65-440B-82BB-451DAF4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4CC9-2CCA-42AE-91E1-69CFF417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7F32-F669-4B3C-8FA0-3264C88E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47540-9A88-4552-8F9A-29D6C3AB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A0FCC-842B-4252-90F1-FC3E02A7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689E-F17F-492A-B95A-1B47090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5ACEA-0E85-43AD-8048-878EAAF9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314-78E6-4909-AC17-B2562167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6469-E7F4-4099-9A3A-340D57859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715-7609-4027-8264-6ED0CFFB3A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D05-AB5C-4284-B0F7-E6EC13F8BE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0F8-662B-4ABB-B812-0F53A1769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6B9-D342-4503-BE8A-30B1D6E413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BEA-15DF-492A-9F52-0445A5F9A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3190-5265-4A64-911A-E67556605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85A-1E8C-4CC5-A25E-D20677FA5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8485-8C1F-4CD9-84FD-E52EDB7CB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242-CF77-4210-8C12-3ECCD3AE1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F4D-2954-4D38-B2A3-627056B15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8FE-959D-4596-BE0D-B8AC142C0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94D-3A77-4AB3-BC61-D34A89E150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17B-4494-4493-8AD2-72CCD753C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DDD-DE99-4F87-88A1-B05FE698DC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09A-44DB-4D2B-8561-B478FDF30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718-6B68-4A49-8752-B1C9CE388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4262-0FD2-4E4A-88D4-6C9B526915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DFC7-5182-45E4-BCAE-55C29439A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2D84-7EF2-48CB-ABC9-F583A1B74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AD49-BD40-4368-A7B5-1F36BE5AA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C9B-C298-4970-9037-5EEF0973D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E4E-A750-437B-A753-96565576C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89BB-61E5-472C-B239-FC0F11815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FD1-CE86-49CD-94EE-E630986EB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D1D-2ED4-477A-AE66-32A2CAE5A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33E8-2DDB-4DBF-9F0B-F25354D11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BC0-2770-4A29-9A8A-68CA09DCA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282-35D4-420F-8825-9EE038375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AD01-EC51-428A-97D1-7B2F54CF4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34C-B114-463B-BF40-CA359FC5B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40C-7275-4442-8D25-B8D846FF40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6B98-6292-4A3E-83E7-EAE15BC5A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BA8-65D0-4A86-9A7F-28AD69DFC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BCAA-DC80-4D5D-9155-A6A932C75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A2DC-8441-4B3B-9F34-2C67AC1A9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6FA7-CFF5-4E0C-81A5-C087289FB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63C-15B6-4C17-A556-16D71E145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27B-7521-4990-9DC6-C5D6D8750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360" y="3192480"/>
            <a:ext cx="91252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81000" y="2157480"/>
            <a:ext cx="8980560" cy="254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435640" y="28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35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435640" y="35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042920" y="42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5435640" y="4221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209520" y="1838160"/>
            <a:ext cx="8724960" cy="318168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2" descr=""/>
          <p:cNvPicPr/>
          <p:nvPr/>
        </p:nvPicPr>
        <p:blipFill>
          <a:blip r:embed="rId2"/>
          <a:stretch/>
        </p:blipFill>
        <p:spPr>
          <a:xfrm>
            <a:off x="3059280" y="2535120"/>
            <a:ext cx="644400" cy="6620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3" descr=""/>
          <p:cNvPicPr/>
          <p:nvPr/>
        </p:nvPicPr>
        <p:blipFill>
          <a:blip r:embed="rId3"/>
          <a:stretch/>
        </p:blipFill>
        <p:spPr>
          <a:xfrm>
            <a:off x="6977160" y="2535120"/>
            <a:ext cx="644400" cy="66204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4" descr=""/>
          <p:cNvPicPr/>
          <p:nvPr/>
        </p:nvPicPr>
        <p:blipFill>
          <a:blip r:embed="rId4"/>
          <a:stretch/>
        </p:blipFill>
        <p:spPr>
          <a:xfrm>
            <a:off x="3247920" y="3414600"/>
            <a:ext cx="644760" cy="66204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5" descr=""/>
          <p:cNvPicPr/>
          <p:nvPr/>
        </p:nvPicPr>
        <p:blipFill>
          <a:blip r:embed="rId5"/>
          <a:stretch/>
        </p:blipFill>
        <p:spPr>
          <a:xfrm>
            <a:off x="7553160" y="3413160"/>
            <a:ext cx="644760" cy="6620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6" descr=""/>
          <p:cNvPicPr/>
          <p:nvPr/>
        </p:nvPicPr>
        <p:blipFill>
          <a:blip r:embed="rId6"/>
          <a:stretch/>
        </p:blipFill>
        <p:spPr>
          <a:xfrm>
            <a:off x="3305160" y="4307040"/>
            <a:ext cx="644400" cy="6616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127" descr=""/>
          <p:cNvPicPr/>
          <p:nvPr/>
        </p:nvPicPr>
        <p:blipFill>
          <a:blip r:embed="rId7"/>
          <a:stretch/>
        </p:blipFill>
        <p:spPr>
          <a:xfrm>
            <a:off x="7451640" y="4307040"/>
            <a:ext cx="64476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685880"/>
            <a:ext cx="8915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628560" y="1628640"/>
            <a:ext cx="7886880" cy="3600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971640" y="234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97164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23840" y="1585800"/>
            <a:ext cx="8896320" cy="3686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7:3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